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D2EB2-D2C3-4700-A61C-9A69415B74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109BE-E223-4228-99A2-85EBA389946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58D14-F4F7-47D8-A03A-0F555009061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F73A8-1E40-43E1-B0F0-75B8E714536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F5B58-96B5-47F0-A85E-9AE1DED9F4D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FDCBB-B938-421B-8538-82BB6246758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503AC-5AFA-4F8D-8024-16D9072F567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B0B94-2E9D-488E-9E3F-490DCDD4F2F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DAB0-76EB-40A4-938A-897AD565A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E2E4-2717-42F8-984B-CABA9118D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6E4B-C318-4282-9499-1D3373742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FB2F-50F3-499A-A3E2-171C55CE0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DE2CB-6AD8-4BC6-839B-C7DB96470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142A3-7F28-4C8A-BF9E-7708C3F72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CFD08-4F65-43DC-B05C-8C341AC4D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71187-5072-417A-94BA-132A93539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3CF5D-3402-40DE-A86A-60B9E58BF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638A8-5CED-4AE2-82B6-4E96614A6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D05F2-0640-4BBC-9F12-A7540228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6D1B-72A4-494B-AA23-705842812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875F9-6E21-4ECF-A99B-1125CD5C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F8AC7-F368-4070-BBDD-C725451E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9EA38-48C4-4E53-AD83-C20F50AF7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89279-A00F-4D55-83A0-D2C9614EF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9CF17-BB87-4C03-B1AD-5E5201509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2F4D5-D4B4-4361-860F-287E6BAE9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FA9F4-0AF3-4748-8097-FDF12B04F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6E8EE-1635-4F19-9B8C-0F1242DC0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B1C65-1382-451E-ABD9-B71550301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2468C-683B-43E3-A827-970B3792A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8D4B-AC3B-494A-87E0-96DC42B71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34992-85C8-41F1-B4D3-76461BA79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4724D-B829-4C94-8F68-F85512487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C6528-5515-421D-BAB8-F3D72447D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FADA9-6378-49A4-83DB-3C79575D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C733C-35AA-4BA3-8D68-ED5CA0C08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99544-674E-45BD-9A9D-EB2AD88D1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AB799-3F17-4BB5-BBEB-2EED830A5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AB5CE-2F14-4CAA-A94D-AD79E58F6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095EA-34F7-45EA-AAD5-F32F8B697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6C24B-1D0B-410D-8290-7DA717FC7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5881-7395-4042-92E9-386D3A8C9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D7963-8789-40C1-9C88-152734221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ADC00-3747-4D6C-BA5C-18A5F4966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AB35B-D7B0-403C-B228-73260D8BC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18A01-C7FA-4518-82AC-7CFFA67C2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FC1B4-EE8E-4743-A6F3-83A37056A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F8586-C1B9-4F30-B99A-C1B943CAD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5418E-5983-41FD-9F28-B13B05465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2DA82-FB1A-466C-A2B2-8BA205C66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D8D2C-3DAE-428F-95F8-BE4F328FE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D8817-7E93-4D33-BA91-587D8913E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3250-5B34-47DD-91ED-486BAA5B4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32BE42-DE6D-49A9-8EBE-23C4721DD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3D44B-D331-4A5B-B184-72E38F43C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C20320-F9DE-4367-AD22-D84531CC4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EEACE-60A7-4DE6-8005-60447F883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97FBD-B7C4-4A6A-993F-F33C97248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D94B5-46EF-43E7-A6B6-72512ACA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C5360-A8B6-42C0-B935-556EFD2E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B2394-BFF0-4F4E-88F6-BABE7DF3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2D5BE5-0963-4587-BC8A-52D0C24BC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58C224-AF08-4446-9548-8111AEEE4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9A4F-61FE-4179-87F9-DD20A80E7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177020-9615-44F8-B8A7-E28D21D0D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3C834B-1A5B-4B82-9665-A5269CE02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0D39FD-F92F-483F-A3C0-6699C6352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1A79B4-E50F-402A-926B-68AA756EF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98F7D2-90C0-4BBC-BD14-23BE09185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3A2A3D-2215-4DE6-A8F9-67250757A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61108F-2662-40B0-8120-26BCDA7DB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0EFFBD-6E59-4E4A-92E2-B89F645E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04F11-BFD2-4DC1-BC22-2D1A56BE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E750E-5225-4E9D-AFFE-4DA99E3E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7788-E6F5-4346-9247-EFDC9DD53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E76657-BA9A-4D17-9B0E-1C3F44CA3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F46FE2-7A13-4CDE-8A33-B41D5C596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FBF2B7-6A1A-4D9E-BEF1-050384C56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032C66-175C-4ECE-BB58-2A9A0B253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C51178-C717-424B-81E7-66519F6EB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158CA0-D418-4FB4-8DE6-03C53D4BE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7CF52A-0E9A-4FC2-8EE6-D51F2261C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F58669-8F23-442B-929F-CFBE42AC2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A3B9FC-1462-4123-AA24-978A25BE0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1F660D-AB6F-4B14-9BC9-8AA40056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ACD9-7F68-44FF-819B-CCE3D629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248CCC-A9FA-45E7-AF1F-BD93376D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8524AD-09C0-4A69-B28A-3689E924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405490-2E5B-4148-9C73-641F05475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71F7F2-0C0D-4AB8-8958-CAF114ECA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18DBCD-9AC7-4102-9AD4-D690AED6C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CBA2-3388-41C9-873B-C6F1D789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86D8D-5792-4DD3-8115-A9F0C259573C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E144B-693B-4463-BFBC-3E78EEBB6A61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C84AA-F744-41F2-91DD-3C446E481F09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B1C28-2DD4-44A6-BFB1-F157A5DEC8E8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66B81-58D2-4DCE-BE7C-0C1A8E98E79A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2A206-C597-4421-BDE6-8A8C48108163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73040" y="12175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26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3040" y="12823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26040" y="1370160"/>
              <a:ext cx="723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320"/>
              <a:ext cx="1022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6040" y="1434960"/>
              <a:ext cx="723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77920" y="14731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2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7920" y="15379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E2F2E-D73A-4152-B10D-1CD0A8CC293E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4"/>
          <p:cNvSpPr/>
          <p:nvPr/>
        </p:nvSpPr>
        <p:spPr>
          <a:xfrm>
            <a:off x="0" y="561960"/>
            <a:ext cx="9144000" cy="16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f3f2"/>
                </a:solidFill>
                <a:latin typeface="Corbel"/>
              </a:rPr>
              <a:t>8</a:t>
            </a:r>
            <a:r>
              <a:rPr b="1" lang="en-US" sz="4000" spc="-1" strike="noStrike" baseline="30000">
                <a:solidFill>
                  <a:srgbClr val="f2f3f2"/>
                </a:solidFill>
                <a:latin typeface="Corbel"/>
              </a:rPr>
              <a:t>th</a:t>
            </a:r>
            <a:r>
              <a:rPr b="1" lang="en-US" sz="4000" spc="-1" strike="noStrike">
                <a:solidFill>
                  <a:srgbClr val="f2f3f2"/>
                </a:solidFill>
                <a:latin typeface="Corbel"/>
              </a:rPr>
              <a:t> Grad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2813040" y="2451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WordArt 6"/>
          <p:cNvSpPr txBox="1"/>
          <p:nvPr/>
        </p:nvSpPr>
        <p:spPr>
          <a:xfrm>
            <a:off x="1295280" y="1828800"/>
            <a:ext cx="556272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Marker Felt"/>
              </a:rPr>
              <a:t>English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Marker Felt"/>
              <a:ea typeface="Marker Felt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7888320" y="4525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TextBox 1"/>
          <p:cNvSpPr/>
          <p:nvPr/>
        </p:nvSpPr>
        <p:spPr>
          <a:xfrm>
            <a:off x="1676520" y="5181480"/>
            <a:ext cx="5410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rbel"/>
              </a:rPr>
              <a:t>Mrs. Debbie Ladeby &amp; Ms. Brittani Siracus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f3f2"/>
                </a:solidFill>
                <a:latin typeface="Consolas"/>
              </a:rPr>
              <a:t>Daily Participatio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2f3f2"/>
                </a:solidFill>
                <a:latin typeface="Corbel"/>
              </a:rPr>
              <a:t>Contribute to class discussions constructivel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2f3f2"/>
                </a:solidFill>
                <a:latin typeface="Corbel"/>
              </a:rPr>
              <a:t>Listen quietly and respectfully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2f3f2"/>
                </a:solidFill>
                <a:latin typeface="Corbel"/>
              </a:rPr>
              <a:t>Prepared with all material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2f3f2"/>
                </a:solidFill>
                <a:latin typeface="Corbel"/>
              </a:rPr>
              <a:t>Cooperate when working in small group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2f3f2"/>
                </a:solidFill>
                <a:latin typeface="Corbel"/>
              </a:rPr>
              <a:t>Following class expectation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2f3f2"/>
                </a:solidFill>
                <a:latin typeface="Corbel"/>
              </a:rPr>
              <a:t>Positive attitude and pleasant demeano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2f3f2"/>
                </a:solidFill>
                <a:latin typeface="Corbel"/>
              </a:rPr>
              <a:t>Independent Reading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2f3f2"/>
                </a:solidFill>
                <a:latin typeface="Corbel"/>
              </a:rPr>
              <a:t>iPads charged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2f3f2"/>
                </a:solidFill>
                <a:latin typeface="Consolas"/>
              </a:rPr>
              <a:t>Late Work Policy</a:t>
            </a:r>
            <a:endParaRPr b="0" lang="en-US" sz="4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15228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65760" indent="-3049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3f2"/>
                </a:solidFill>
                <a:latin typeface="Corbel"/>
              </a:rPr>
              <a:t>Once an assignment has been entered into Power School,  students have one week to turn it in before it becomes a zero.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3f2"/>
                </a:solidFill>
                <a:latin typeface="Corbe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3f2"/>
                </a:solidFill>
                <a:latin typeface="Corbel"/>
              </a:rPr>
              <a:t>Late work will receive no higher than a “C”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3f2"/>
                </a:solidFill>
                <a:latin typeface="Corbel"/>
              </a:rPr>
              <a:t>After a week, an assignment can receive no more than 50% 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f3f2"/>
                </a:solidFill>
                <a:latin typeface="Consolas"/>
              </a:rPr>
              <a:t>Absences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685440" y="15238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02840" indent="-3355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3f2"/>
                </a:solidFill>
                <a:latin typeface="Corbel"/>
              </a:rPr>
              <a:t>Attendance is crucial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3f2"/>
                </a:solidFill>
                <a:latin typeface="Corbel"/>
              </a:rPr>
              <a:t>A student is responsible for missing work while out on an absence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3f2"/>
                </a:solidFill>
                <a:latin typeface="Corbel"/>
              </a:rPr>
              <a:t>Help your child by checking the class website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24680" indent="-28008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3f2"/>
                </a:solidFill>
                <a:latin typeface="Corbel"/>
              </a:rPr>
              <a:t>Email me if you or your child needs more clarification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24680" indent="-28008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3f2"/>
                </a:solidFill>
                <a:latin typeface="Corbel"/>
              </a:rPr>
              <a:t>Most assignments can be completed and submitted online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24680" indent="-28008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3f2"/>
                </a:solidFill>
                <a:latin typeface="Corbel"/>
              </a:rPr>
              <a:t>Your child will receive extra days according to absence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2f3f2"/>
                </a:solidFill>
                <a:latin typeface="Consolas"/>
              </a:rPr>
              <a:t>Student Progress</a:t>
            </a:r>
            <a:endParaRPr b="0" lang="en-US" sz="4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685800" y="13716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3f2"/>
                </a:solidFill>
                <a:latin typeface="Corbel"/>
              </a:rPr>
              <a:t>Please check Power School account to make sure you’re on track!!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3f2"/>
                </a:solidFill>
                <a:latin typeface="Corbel"/>
              </a:rPr>
              <a:t>Parent Login received at Tech Training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3f2"/>
                </a:solidFill>
                <a:latin typeface="Corbel"/>
              </a:rPr>
              <a:t>Monthly Class Progress Reports home 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1375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4" name="Rectangle 4"/>
          <p:cNvSpPr/>
          <p:nvPr/>
        </p:nvSpPr>
        <p:spPr>
          <a:xfrm>
            <a:off x="8623440" y="5700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2f3f2"/>
                </a:solidFill>
                <a:latin typeface="Consolas"/>
              </a:rPr>
              <a:t>Tutoring</a:t>
            </a:r>
            <a:endParaRPr b="0" lang="en-US" sz="5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3f2"/>
                </a:solidFill>
                <a:latin typeface="Corbel"/>
              </a:rPr>
              <a:t>Every </a:t>
            </a:r>
            <a:r>
              <a:rPr b="1" lang="en-US" sz="4000" spc="-1" strike="noStrike">
                <a:solidFill>
                  <a:srgbClr val="f2f3f2"/>
                </a:solidFill>
                <a:latin typeface="Corbel"/>
              </a:rPr>
              <a:t>Monday , Tuesday, and Most Thursdays</a:t>
            </a:r>
            <a:r>
              <a:rPr b="0" lang="en-US" sz="1200" spc="-1" strike="noStrike">
                <a:solidFill>
                  <a:srgbClr val="f2f3f2"/>
                </a:solidFill>
                <a:latin typeface="Corbel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3f2"/>
                </a:solidFill>
                <a:latin typeface="Corbel"/>
              </a:rPr>
              <a:t>	</a:t>
            </a:r>
            <a:r>
              <a:rPr b="0" lang="en-US" sz="3600" spc="-1" strike="noStrike">
                <a:solidFill>
                  <a:srgbClr val="f2f3f2"/>
                </a:solidFill>
                <a:latin typeface="Corbel"/>
              </a:rPr>
              <a:t>	</a:t>
            </a:r>
            <a:r>
              <a:rPr b="0" lang="en-US" sz="3600" spc="-1" strike="noStrike">
                <a:solidFill>
                  <a:srgbClr val="f2f3f2"/>
                </a:solidFill>
                <a:latin typeface="Corbel"/>
              </a:rPr>
              <a:t>	</a:t>
            </a:r>
            <a:r>
              <a:rPr b="0" lang="en-US" sz="3600" spc="-1" strike="noStrike">
                <a:solidFill>
                  <a:srgbClr val="f2f3f2"/>
                </a:solidFill>
                <a:latin typeface="Corbel"/>
              </a:rPr>
              <a:t>	</a:t>
            </a:r>
            <a:r>
              <a:rPr b="0" lang="en-US" sz="3600" spc="-1" strike="noStrike">
                <a:solidFill>
                  <a:srgbClr val="f2f3f2"/>
                </a:solidFill>
                <a:latin typeface="Corbel"/>
              </a:rPr>
              <a:t>3:00 – 4:00 p.m.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3f2"/>
                </a:solidFill>
                <a:latin typeface="Corbel"/>
              </a:rPr>
              <a:t>Before school 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3f2"/>
                </a:solidFill>
                <a:latin typeface="Corbel"/>
              </a:rPr>
              <a:t>By appointmen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07" name="Picture 6" descr=""/>
          <p:cNvPicPr/>
          <p:nvPr/>
        </p:nvPicPr>
        <p:blipFill>
          <a:blip r:embed="rId1"/>
          <a:stretch/>
        </p:blipFill>
        <p:spPr>
          <a:xfrm>
            <a:off x="6400800" y="3733920"/>
            <a:ext cx="2517840" cy="2666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685800" y="3808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74040" indent="-3117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f3f2"/>
                </a:solidFill>
                <a:latin typeface="Corbel"/>
              </a:rPr>
              <a:t>Please contact me if you have any questions/concerns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rbel"/>
              </a:rPr>
              <a:t>dladeby@sandi.net </a:t>
            </a: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eb80a"/>
                </a:solidFill>
                <a:latin typeface="Corbel"/>
              </a:rPr>
              <a:t>bsiracusa@sandi.net</a:t>
            </a: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Please update Power School Profile with email address through the office!!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09" name="Picture 4" descr=""/>
          <p:cNvPicPr/>
          <p:nvPr/>
        </p:nvPicPr>
        <p:blipFill>
          <a:blip r:embed="rId1"/>
          <a:stretch/>
        </p:blipFill>
        <p:spPr>
          <a:xfrm>
            <a:off x="380880" y="2819520"/>
            <a:ext cx="838440" cy="742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f3f2"/>
                </a:solidFill>
                <a:latin typeface="Consolas"/>
              </a:rPr>
              <a:t>Daily Expectation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2f3f2"/>
                </a:solidFill>
                <a:latin typeface="Corbel"/>
              </a:rPr>
              <a:t>In your seat by the time the bell ring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2f3f2"/>
                </a:solidFill>
                <a:latin typeface="Corbel"/>
              </a:rPr>
              <a:t>Prepared with all supplies in clas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2f3f2"/>
                </a:solidFill>
                <a:latin typeface="Corbel"/>
              </a:rPr>
              <a:t>Homework written in planner dail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2f3f2"/>
                </a:solidFill>
                <a:latin typeface="Corbel"/>
              </a:rPr>
              <a:t>Positive Attitude and Open mind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2f3f2"/>
                </a:solidFill>
                <a:latin typeface="Corbel"/>
              </a:rPr>
              <a:t>SURGE Environmen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b80a"/>
                </a:solidFill>
                <a:latin typeface="Consolas"/>
              </a:rPr>
              <a:t>Curriculum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09480" y="106632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3f2"/>
                </a:solidFill>
                <a:latin typeface="Corbel"/>
              </a:rPr>
              <a:t>Focus on Common Core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901"/>
              </a:spcBef>
              <a:buClr>
                <a:srgbClr val="ea157a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3f2"/>
                </a:solidFill>
                <a:latin typeface="Corbel"/>
              </a:rPr>
              <a:t>Emphasis on Literacy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lnSpc>
                <a:spcPct val="90000"/>
              </a:lnSpc>
              <a:spcBef>
                <a:spcPts val="850"/>
              </a:spcBef>
              <a:buClr>
                <a:srgbClr val="ea157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2f3f2"/>
                </a:solidFill>
                <a:latin typeface="Corbel"/>
              </a:rPr>
              <a:t>Reading</a:t>
            </a: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lnSpc>
                <a:spcPct val="90000"/>
              </a:lnSpc>
              <a:spcBef>
                <a:spcPts val="850"/>
              </a:spcBef>
              <a:buClr>
                <a:srgbClr val="ea157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2f3f2"/>
                </a:solidFill>
                <a:latin typeface="Corbel"/>
              </a:rPr>
              <a:t>Writing </a:t>
            </a: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lnSpc>
                <a:spcPct val="90000"/>
              </a:lnSpc>
              <a:spcBef>
                <a:spcPts val="850"/>
              </a:spcBef>
              <a:buClr>
                <a:srgbClr val="ea157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2f3f2"/>
                </a:solidFill>
                <a:latin typeface="Corbel"/>
              </a:rPr>
              <a:t>Critical Thinking</a:t>
            </a: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lnSpc>
                <a:spcPct val="90000"/>
              </a:lnSpc>
              <a:spcBef>
                <a:spcPts val="850"/>
              </a:spcBef>
              <a:buClr>
                <a:srgbClr val="ea157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2f3f2"/>
                </a:solidFill>
                <a:latin typeface="Corbel"/>
              </a:rPr>
              <a:t>Ability to support claims</a:t>
            </a: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lnSpc>
                <a:spcPct val="90000"/>
              </a:lnSpc>
              <a:spcBef>
                <a:spcPts val="850"/>
              </a:spcBef>
              <a:buClr>
                <a:srgbClr val="ea157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2f3f2"/>
                </a:solidFill>
                <a:latin typeface="Corbel"/>
              </a:rPr>
              <a:t>Discussions</a:t>
            </a: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lnSpc>
                <a:spcPct val="90000"/>
              </a:lnSpc>
              <a:spcBef>
                <a:spcPts val="799"/>
              </a:spcBef>
              <a:buClr>
                <a:srgbClr val="feb80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3f2"/>
                </a:solidFill>
                <a:latin typeface="Corbel"/>
              </a:rPr>
              <a:t>Informa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lnSpc>
                <a:spcPct val="90000"/>
              </a:lnSpc>
              <a:spcBef>
                <a:spcPts val="799"/>
              </a:spcBef>
              <a:buClr>
                <a:srgbClr val="feb80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3f2"/>
                </a:solidFill>
                <a:latin typeface="Corbel"/>
              </a:rPr>
              <a:t>Formal - Forums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lnSpc>
                <a:spcPct val="90000"/>
              </a:lnSpc>
              <a:spcBef>
                <a:spcPts val="799"/>
              </a:spcBef>
              <a:buClr>
                <a:srgbClr val="ea157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Units of Study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lements of Narrativ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Response to Literature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xpository Tex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rgument Writing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ose Reading and Summary Writing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Keeping Track of Assignment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ook for the agenda on the board – planner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ass Website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ms.sandi.ne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heck with class friend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mail: dladeby@sandi.net or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               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bsiracusa@sandi.net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“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I don’t have any homework.”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“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et me see your planner.”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“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Now, let’s check the class website.”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“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how me your completed assignment.”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“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s there anything else you can add?”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“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f you don’t have any homework, take out a book and read.”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“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Don’t forget to charge your iPad.”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f3f2"/>
                </a:solidFill>
                <a:latin typeface="Consolas"/>
              </a:rPr>
              <a:t>Supplie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60948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2f3f2"/>
                </a:solidFill>
                <a:latin typeface="Corbel"/>
              </a:rPr>
              <a:t>2 ½” Three Ring Binder w/ Dividers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2f3f2"/>
                </a:solidFill>
                <a:latin typeface="Corbel"/>
              </a:rPr>
              <a:t>Binder pape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2f3f2"/>
                </a:solidFill>
                <a:latin typeface="Corbel"/>
              </a:rPr>
              <a:t>Pencils/Pens (multiple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2f3f2"/>
                </a:solidFill>
                <a:latin typeface="Corbel"/>
              </a:rPr>
              <a:t>Highlighte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2f3f2"/>
                </a:solidFill>
                <a:latin typeface="Corbel"/>
              </a:rPr>
              <a:t>Colored Pencils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2f3f2"/>
                </a:solidFill>
                <a:latin typeface="Corbel"/>
              </a:rPr>
              <a:t>Ear buds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2f3f2"/>
                </a:solidFill>
                <a:latin typeface="Corbel"/>
              </a:rPr>
              <a:t>iPad Charged Daily!!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f3f2"/>
                </a:solidFill>
                <a:latin typeface="Consolas"/>
              </a:rPr>
              <a:t>Grading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3f2"/>
                </a:solidFill>
                <a:latin typeface="Corbel"/>
              </a:rPr>
              <a:t>A standard grading scale will be used (A=100%-90%; B=89%-80%; C=79%-70%; D=69%-60%; F 59% and below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)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3f2"/>
                </a:solidFill>
                <a:latin typeface="Corbel"/>
              </a:rPr>
              <a:t>Grade will consist of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3f2"/>
                </a:solidFill>
                <a:latin typeface="Corbel"/>
              </a:rPr>
              <a:t>Classwork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3f2"/>
                </a:solidFill>
                <a:latin typeface="Corbel"/>
              </a:rPr>
              <a:t>Homework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3f2"/>
                </a:solidFill>
                <a:latin typeface="Corbel"/>
              </a:rPr>
              <a:t>Written Work/Project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3f2"/>
                </a:solidFill>
                <a:latin typeface="Corbel"/>
              </a:rPr>
              <a:t>Assessments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3f2"/>
                </a:solidFill>
                <a:latin typeface="Corbel"/>
              </a:rPr>
              <a:t>Participation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f3f2"/>
                </a:solidFill>
                <a:latin typeface="Consolas"/>
              </a:rPr>
              <a:t>Posting Grade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3f2"/>
                </a:solidFill>
                <a:latin typeface="Corbel"/>
              </a:rPr>
              <a:t>Grades are entered as soon as I can get to them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3f2"/>
                </a:solidFill>
                <a:latin typeface="Corbel"/>
              </a:rPr>
              <a:t>Keep track of assignments on Power School and verify scores with returned documents 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3f2"/>
                </a:solidFill>
                <a:latin typeface="Corbel"/>
              </a:rPr>
              <a:t>(Students that submit </a:t>
            </a:r>
            <a:r>
              <a:rPr b="0" lang="ja-JP" sz="2800" spc="-1" strike="noStrike">
                <a:solidFill>
                  <a:srgbClr val="f2f3f2"/>
                </a:solidFill>
                <a:latin typeface="Corbel"/>
                <a:ea typeface="HGｺﾞｼｯｸM"/>
              </a:rPr>
              <a:t>“</a:t>
            </a:r>
            <a:r>
              <a:rPr b="0" lang="en-US" sz="2800" spc="-1" strike="noStrike">
                <a:solidFill>
                  <a:srgbClr val="f2f3f2"/>
                </a:solidFill>
                <a:latin typeface="Corbel"/>
                <a:ea typeface="HGｺﾞｼｯｸM"/>
              </a:rPr>
              <a:t>late work</a:t>
            </a:r>
            <a:r>
              <a:rPr b="0" lang="ja-JP" sz="2800" spc="-1" strike="noStrike">
                <a:solidFill>
                  <a:srgbClr val="f2f3f2"/>
                </a:solidFill>
                <a:latin typeface="Corbel"/>
                <a:ea typeface="HGｺﾞｼｯｸM"/>
              </a:rPr>
              <a:t>”</a:t>
            </a:r>
            <a:r>
              <a:rPr b="0" lang="en-US" sz="2800" spc="-1" strike="noStrike">
                <a:solidFill>
                  <a:srgbClr val="f2f3f2"/>
                </a:solidFill>
                <a:latin typeface="Corbel"/>
                <a:ea typeface="HGｺﾞｼｯｸM"/>
              </a:rPr>
              <a:t> must be patient for entering of points.  Be persistent, but still polite.) </a:t>
            </a:r>
            <a:r>
              <a:rPr b="0" lang="en-US" sz="2800" spc="-1" strike="noStrike">
                <a:solidFill>
                  <a:srgbClr val="f2f3f2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f2f3f2"/>
                </a:solidFill>
                <a:latin typeface="Corbel"/>
                <a:ea typeface="HGｺﾞｼｯｸM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4T14:55:13Z</dcterms:created>
  <dc:creator>Rick Selby</dc:creator>
  <dc:description/>
  <dc:language>en-US</dc:language>
  <cp:lastModifiedBy>Siracusa Brittani</cp:lastModifiedBy>
  <cp:lastPrinted>2003-09-24T17:54:21Z</cp:lastPrinted>
  <dcterms:modified xsi:type="dcterms:W3CDTF">2013-10-02T23:22:52Z</dcterms:modified>
  <cp:revision>82</cp:revision>
  <dc:subject/>
  <dc:title>No Slide Title</dc:title>
</cp:coreProperties>
</file>